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8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B0B-431F-4AB8-A830-733C2BB6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906-351D-43BC-BC17-4514FD2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952-758B-47AF-AF6B-3F2BC322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452-E6E6-4586-8F3E-37239C92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68C9-CA39-470E-BEF4-0E051B62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5A7F-2939-4A6A-8679-F90CF25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B9B-A150-445F-8518-E2C81AC6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F81-38D8-4E64-ABDF-C0965C6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BD7-0B55-475F-84DB-D9C8093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E2E-03C5-40D3-AD83-2BEF6A3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F0D6-CA29-4CF7-9093-ED73FAC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0BD-1C74-4DEF-9FCE-7144486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770-2AB5-4368-BC67-2AD2F026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6B1-71A7-4EC6-92F9-3B4234C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7FBB-A4E0-4DFD-A22B-56CB4D0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318-8E5C-436A-9CD1-E774AD4C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5DD-8FC5-44AB-95B6-95AF74BE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CF5-7D48-437E-BEEC-D7008182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258-AD53-4ACE-A108-2D4F402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6B8-6318-4068-A5FC-57EE54A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C8-BC82-4EA4-83A0-80F5C3F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DD4-6793-4CD9-9252-16CEAA2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473-4BA7-41C5-885E-9DA11A7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648-B718-42A0-A864-B107BB9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5F6D-1275-4517-BBD7-408897E7CB90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9DF-2AF7-4163-AFFE-C52FF84D6D3A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яжущие вещества - это порошкообразные материалы минерального происхождения, которые при затворении водой образуют тесто, быстро или медленно твердеющее. Для предотвращения растрескивания теста при затвердении (вследствие уменьшения в объеме), а также повышение теплозащитных свойств и удешевления раствора в него добавляют чистый   кварцевый   песок,  мелкий шлак, пемзовую мелочь или другие подобные  материал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645000"/>
            <a:ext cx="8980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109440" y="-341280"/>
            <a:ext cx="9253440" cy="313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Женис\Desktop\известь.jpeg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1360" y="255600"/>
            <a:ext cx="8466120" cy="267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Женис\Desktop\известьes.jpeg"/>
          <p:cNvPicPr/>
          <p:nvPr/>
        </p:nvPicPr>
        <p:blipFill>
          <a:blip r:embed="rId2"/>
          <a:stretch/>
        </p:blipFill>
        <p:spPr>
          <a:xfrm>
            <a:off x="1143000" y="2928960"/>
            <a:ext cx="63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31680"/>
            <a:ext cx="52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Строительный гипс получается путем обжига и помола гипсового камня при температуре 160 -170°. Обжиг гипсового камня производится двумя способами: при первом — гипсовый камень сначала обжигается в специальных печах, а потом размалывается через сита. Такой гипс называется жженым.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:\Users\Женис\Desktop\гипсlt.jpeg"/>
          <p:cNvPicPr/>
          <p:nvPr/>
        </p:nvPicPr>
        <p:blipFill>
          <a:blip r:embed="rId1"/>
          <a:stretch/>
        </p:blipFill>
        <p:spPr>
          <a:xfrm>
            <a:off x="5072040" y="0"/>
            <a:ext cx="3821040" cy="376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Женис\Desktop\гипсddd85.jpg"/>
          <p:cNvPicPr/>
          <p:nvPr/>
        </p:nvPicPr>
        <p:blipFill>
          <a:blip r:embed="rId2"/>
          <a:stretch/>
        </p:blipFill>
        <p:spPr>
          <a:xfrm>
            <a:off x="5003640" y="3929040"/>
            <a:ext cx="414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7248600" cy="499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Женис\Desktop\гипсыs.jpeg"/>
          <p:cNvPicPr/>
          <p:nvPr/>
        </p:nvPicPr>
        <p:blipFill>
          <a:blip r:embed="rId2"/>
          <a:stretch/>
        </p:blipFill>
        <p:spPr>
          <a:xfrm>
            <a:off x="6715080" y="285840"/>
            <a:ext cx="2428920" cy="245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Женис\Desktop\гипs.jpeg"/>
          <p:cNvPicPr/>
          <p:nvPr/>
        </p:nvPicPr>
        <p:blipFill>
          <a:blip r:embed="rId3"/>
          <a:stretch/>
        </p:blipFill>
        <p:spPr>
          <a:xfrm>
            <a:off x="0" y="4265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21096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Женис\Desktop\цемt.jpeg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Женис\Desktop\цемен.jpeg"/>
          <p:cNvPicPr/>
          <p:nvPr/>
        </p:nvPicPr>
        <p:blipFill>
          <a:blip r:embed="rId3"/>
          <a:stretch/>
        </p:blipFill>
        <p:spPr>
          <a:xfrm>
            <a:off x="4425840" y="2565360"/>
            <a:ext cx="471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8869320" cy="2882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Users\Женис\Desktop\гна.jpeg"/>
          <p:cNvPicPr/>
          <p:nvPr/>
        </p:nvPicPr>
        <p:blipFill>
          <a:blip r:embed="rId2"/>
          <a:stretch/>
        </p:blipFill>
        <p:spPr>
          <a:xfrm>
            <a:off x="0" y="2000160"/>
            <a:ext cx="8902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личительными  свойствами глины являются пластичность, способность  разбухать и увеличиваться  в  объеме при поглощении 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C:\Users\Женис\Desktop\глина.jpeg"/>
          <p:cNvPicPr/>
          <p:nvPr/>
        </p:nvPicPr>
        <p:blipFill>
          <a:blip r:embed="rId1"/>
          <a:stretch/>
        </p:blipFill>
        <p:spPr>
          <a:xfrm>
            <a:off x="324000" y="1643040"/>
            <a:ext cx="863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не является природным материалом. Его изготовление - процесс дорогостоящий и энергоемкий, однако результат стоит того - на выходе получают один из самых популярных строительных материалов, который используется как самостоятельно, так и в качестве составляющего компонента других строительных материалов (например, бетона и железобетона). Цементные заводы, как правило, находятся сразу же на месте добычи сырьевых материалов для производства це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i5559619"/>
          <p:cNvPicPr/>
          <p:nvPr/>
        </p:nvPicPr>
        <p:blipFill>
          <a:blip r:embed="rId2"/>
          <a:stretch/>
        </p:blipFill>
        <p:spPr>
          <a:xfrm>
            <a:off x="4714920" y="1357200"/>
            <a:ext cx="4429080" cy="550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20080320145455"/>
          <p:cNvPicPr/>
          <p:nvPr/>
        </p:nvPicPr>
        <p:blipFill>
          <a:blip r:embed="rId3"/>
          <a:stretch/>
        </p:blipFill>
        <p:spPr>
          <a:xfrm>
            <a:off x="0" y="1357200"/>
            <a:ext cx="45007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200400" y="175248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Электрические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йства веществ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9144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4290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лу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9436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электр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7400" y="3276720"/>
            <a:ext cx="4952880" cy="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205740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64832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701028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92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рошо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металлы, электролиты, плазм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спользуемые проводники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, Cu, Al, Fe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40080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ктически не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пластмассы, резина, стекло, фарфор, сухое дерево, бумаг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335268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нимают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 проводимост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межуточное положение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между проводниками и диэлектриками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, Ge, Se, In, As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80880" y="476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ые вещества имеют различные электрические свойства, однако по электрической проводимости их можно разделить на 3 основные группы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28240" cy="1446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Получение клинк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доведение клинкера до порошкообразного состояния с добавлением к нему гипса или других добавок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6" descr="f1912_1"/>
          <p:cNvPicPr/>
          <p:nvPr/>
        </p:nvPicPr>
        <p:blipFill>
          <a:blip r:embed="rId2"/>
          <a:stretch/>
        </p:blipFill>
        <p:spPr>
          <a:xfrm>
            <a:off x="4357800" y="4437000"/>
            <a:ext cx="45133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самый дорогостоящий, именно на него приходится 70% себестоимости цемента. А происходит это следующим образом: первая стадия - это добыча сырьевых материалов. Разработка известняковых месторождений ведется обычно сносом, т. е. часть горы «сносят вниз», открывая тем самым слой желтовато-зеленого известняка, который используется для производства цемента. Затем этот материал отправляется на измельчение до кусков равных 10 см в диаметре. После этого известняк подсушивается, и идет процесс помола и смешивания его с другими компонентами. Далее эта сырьевая смесь подвергается обжигу. Так получают клинк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тоже состоит из нескольких стадий. Это: дробление клинкера, сушка минеральных добавок, дробление гипсового камня, помол клинкера совместно с гипсом и активными минеральными добавками. В цементной промышленности используют три способа производства, в основе которых лежат различные технологические приемы подготовки сырьевого материала: мокрый, сухой и комбинирован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4" descr="11440963"/>
          <p:cNvPicPr/>
          <p:nvPr/>
        </p:nvPicPr>
        <p:blipFill>
          <a:blip r:embed="rId2"/>
          <a:stretch/>
        </p:blipFill>
        <p:spPr>
          <a:xfrm>
            <a:off x="40006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65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askerville Old Face"/>
              </a:rPr>
              <a:t>производства используют при изготовлении цемента из мела (карбонатный компонент), глины (силикатный компонент) и железосодержащих добавок (конверторный шлам, железистый продукт, пиритные огарки). Влажность глины при этом не должна превышать 20%, а влажность мела - 29%. Мокрым этот способ назван потому, что измельчение сырьевой смеси производится в водной среде, на выходе получается шихта в виде водной суспензии - шлама влажностью 30 - 50%. Далее шлам поступает в печь для обжига. При обжиге из сырья выделяются углекислоты. После этого шарики-клинкеры, растирают в тонкий порошок, который и является цемен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7db4b77727b42a3d5cfdb347c53f9199"/>
          <p:cNvPicPr/>
          <p:nvPr/>
        </p:nvPicPr>
        <p:blipFill>
          <a:blip r:embed="rId2"/>
          <a:stretch/>
        </p:blipFill>
        <p:spPr>
          <a:xfrm>
            <a:off x="4572000" y="432432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thumbsup"/>
          <p:cNvPicPr/>
          <p:nvPr/>
        </p:nvPicPr>
        <p:blipFill>
          <a:blip r:embed="rId3"/>
          <a:stretch/>
        </p:blipFill>
        <p:spPr>
          <a:xfrm>
            <a:off x="214200" y="4286160"/>
            <a:ext cx="407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Сухой способ заключается в том, что сырьевые материалы перед помолом или в его процессе высушиваются. И сырьевая шихта выходит в виде тонкоизмельченного сухого порош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Комбинированный способ, как уже следует из названия, предполагает использование и сухого и мокрого способа. Комбинированный способ имеет две разновидности. Первая предполагает, что сырьевую смесь готовят по мокрому способу в виде шлама, потом её обезвоживают на фильтрах до влажности 16 - 18% и отправляют в печи для обжига в виде полусухой массы. Второй вариант приготовления является прямо противоположны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1223060277_6_small"/>
          <p:cNvPicPr/>
          <p:nvPr/>
        </p:nvPicPr>
        <p:blipFill>
          <a:blip r:embed="rId2"/>
          <a:stretch/>
        </p:blipFill>
        <p:spPr>
          <a:xfrm>
            <a:off x="179280" y="3571920"/>
            <a:ext cx="89647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ля каждого способа используется определенный вид оборудования и строго определенная последовательность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алее цемент фасуется в бумажные мешки по 50 кг. Отправка производится на автомобилях или по железнодорожной дорог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Без цемента не обходится ни одно строительство, а это лучший показатель его высоких эксплуатационных характерист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0000098824-preview"/>
          <p:cNvPicPr/>
          <p:nvPr/>
        </p:nvPicPr>
        <p:blipFill>
          <a:blip r:embed="rId1"/>
          <a:stretch/>
        </p:blipFill>
        <p:spPr>
          <a:xfrm>
            <a:off x="357120" y="4500720"/>
            <a:ext cx="8501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523880" y="404640"/>
            <a:ext cx="61722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полупроводниках неметалла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6" descr="6306"/>
          <p:cNvPicPr/>
          <p:nvPr/>
        </p:nvPicPr>
        <p:blipFill>
          <a:blip r:embed="rId1"/>
          <a:stretch/>
        </p:blipFill>
        <p:spPr>
          <a:xfrm rot="21405000">
            <a:off x="207720" y="3571560"/>
            <a:ext cx="4459320" cy="328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3596"/>
          <p:cNvPicPr/>
          <p:nvPr/>
        </p:nvPicPr>
        <p:blipFill>
          <a:blip r:embed="rId2"/>
          <a:stretch/>
        </p:blipFill>
        <p:spPr>
          <a:xfrm rot="255600">
            <a:off x="4716360" y="3646440"/>
            <a:ext cx="4550040" cy="32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3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16000" y="1600200"/>
            <a:ext cx="5832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Полупроводники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ещества у которых удельное сопротивление с повышением температуры уменьш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365360"/>
            <a:ext cx="611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2" descr="22"/>
          <p:cNvPicPr/>
          <p:nvPr/>
        </p:nvPicPr>
        <p:blipFill>
          <a:blip r:embed="rId2"/>
          <a:stretch/>
        </p:blipFill>
        <p:spPr>
          <a:xfrm>
            <a:off x="539640" y="1413000"/>
            <a:ext cx="244800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435640" y="1268280"/>
            <a:ext cx="33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мний – 4 валентный химический элемент. Каждый атом имеет во внешнем электронном слое по 4 электрона, которые используются для образования парноэлектронных (ковалентных) связей с 4 соседними атомами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920" y="5589720"/>
            <a:ext cx="853416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бычных условиях (невысоких температурах)  в полупроводниках отсутствуют свободные заряженные частицы, поэтому полупроводник не проводит электрический т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06668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96252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514600" y="3048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06668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96252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 flipH="1" rot="3127800">
            <a:off x="3085200" y="1181520"/>
            <a:ext cx="1371600" cy="3276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 flipH="1" rot="18531600">
            <a:off x="3084840" y="2552760"/>
            <a:ext cx="1371600" cy="3276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 flipH="1" rot="18531600">
            <a:off x="1409400" y="1180800"/>
            <a:ext cx="1371600" cy="3276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1371600" y="51814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1447920" y="37339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1371600" y="15238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14479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3124080" y="44956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3352680" y="21337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Rectangle 2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242560" cy="5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мотрим проводимость полупроводников на основе кремни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Homepage">
            <a:hlinkClick r:id="rId2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16 0.07954 C -0.20851 0.0363 -0.16458 -0.06705 -0.08333 -0.15075 C -0.00278 -0.23352 0.08507 -0.26635 0.11094 -0.22266 C 0.13646 -0.18034 0.09132 -0.07653 0.01128 0.00648 C -0.07014 0.09018 -0.1566 0.12208 -0.19375 0.06544 E"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-0.07075 C 0.1915 -0.03029 0.14809 0.07006 0.0691 0.1526 C -0.00937 0.23445 -0.09392 0.26821 -0.11788 0.22751 C -0.14166 0.18751 -0.09687 0.08693 -0.01892 0.00485 C 0.06007 -0.07792 0.14341 -0.11098 0.16823 -0.07075 Z">
                                      <p:cBhvr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04920" y="685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м изменения в полупроводнике при увеличении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5300640"/>
            <a:ext cx="8496000" cy="161856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увеличении температуры энергия электронов увеличивается и некоторые из них покидают связи, становяс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ными электрон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 их месте остаются некомпенсированные электрические заряды (виртуальные заряженные частицы), называем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ыркам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754200" y="18543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3249720" y="185436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00160" y="304812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754200" y="410040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249720" y="410040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 flipH="1" rot="3127800">
            <a:off x="2431080" y="131220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 flipH="1" rot="18531600">
            <a:off x="2430720" y="261612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1392120" y="167652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1081080" y="3087720"/>
            <a:ext cx="26496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3332160" y="314640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2527200" y="43178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3708360" y="373860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652840" y="20448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72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й  электрон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7339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ырк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5"/>
          <p:cNvSpPr/>
          <p:nvPr/>
        </p:nvSpPr>
        <p:spPr>
          <a:xfrm>
            <a:off x="1101600" y="48927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6"/>
          <p:cNvSpPr/>
          <p:nvPr/>
        </p:nvSpPr>
        <p:spPr>
          <a:xfrm>
            <a:off x="907920" y="3606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6.87861E-006 C 0.01024 -0.01457 0.02413 -0.02313 0.03645 -0.034 C 0.04079 -0.03793 0.04357 -0.04255 0.04756 -0.04671 C 0.05399 -0.05319 0.06111 -0.05874 0.06822 -0.06359 C 0.07586 -0.08417 0.09062 -0.08694 0.10468 -0.09735 C 0.10954 -0.10105 0.11249 -0.1066 0.11736 -0.11006 C 0.12829 -0.11793 0.13888 -0.12602 0.15069 -0.13111 C 0.15729 -0.13989 0.16753 -0.1392 0.17621 -0.14382 C 0.20815 -0.1607 0.23541 -0.15654 0.27135 -0.15654 E">
                                      <p:cBhvr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2451 C 0.01407 0.03006 0.01876 0.03468 0.02049 0.04139 C 0.02101 0.04347 0.02119 0.04578 0.02205 0.04763 C 0.02327 0.05018 0.02501 0.05249 0.02691 0.05411 C 0.03351 0.05989 0.04323 0.06335 0.0507 0.06659 C 0.05782 0.0696 0.05678 0.07006 0.06494 0.07723 C 0.06858 0.08046 0.07344 0.07954 0.07761 0.08139 C 0.08507 0.08809 0.09063 0.08902 0.09983 0.09203 C 0.10469 0.09364 0.10903 0.09781 0.11407 0.0985 C 0.12431 0.10012 0.13421 0.1022 0.14428 0.10474 C 0.16129 0.10335 0.1783 0.10289 0.19514 0.10058 C 0.21407 0.09804 0.22622 0.07746 0.24271 0.0689 C 0.24636 0.06127 0.25105 0.0585 0.25539 0.05179 C 0.25955 0.04532 0.26025 0.04231 0.26494 0.037 C 0.26632 0.03538 0.26823 0.03445 0.26962 0.03283 C 0.2724 0.0296 0.27761 0.0222 0.27761 0.0222 C 0.28212 0.00393 0.2757 0.02659 0.28247 0.01179 C 0.28785 -2.19652999999993E-006 0.279 0.00971 0.28872 0.00116 C 0.2908 -0.00717 0.29271 -0.01086 0.29827 -0.01572 C 0.30261 -0.02566 0.30626 -0.03607 0.31094 -0.04532 C 0.31685 -0.06913 0.32049 -0.09942 0.3316 -0.1193 C 0.33612 -0.1378 0.33768 -0.16323 0.3507 -0.17433 C 0.35712 -0.18705 0.36355 -0.18751 0.37136 -0.19745 C 0.3757 -0.20925 0.3724 -0.20532 0.38247 -0.21017 C 0.3856 -0.21179 0.39185 -0.21456 0.39185 -0.21456 E">
                                      <p:cBhvr>
                                        <p:cTn id="23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4572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электрический ток в полупроводниках представляет собой упорядоченное движение свободных электронов и положительных виртуальных частиц - дыр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ь сопротивления от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м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295280" y="2437920"/>
            <a:ext cx="0" cy="304812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066680" y="5334120"/>
            <a:ext cx="4876920" cy="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00200" y="2666880"/>
            <a:ext cx="2209680" cy="2286000"/>
          </a:xfrm>
          <a:prstGeom prst="pie">
            <a:avLst/>
          </a:prstGeom>
          <a:noFill/>
          <a:ln w="38160">
            <a:solidFill>
              <a:srgbClr val="41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410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(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еталл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проводник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39640" y="5851440"/>
            <a:ext cx="780444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величении темпера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стет число свободных носителей заряд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мость полупроводников раст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противление уменьшается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2280" y="4762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ная проводимость полупроводников явно недостаточна для технического применения полупровод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увеличение проводимости в чистые полупроводники внедряют примеси (легируют) , которые бывают донорные и акцепторные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68904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18456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32732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258768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1935000" y="3505320"/>
            <a:ext cx="65592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101592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67000" y="357984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643200" y="417204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68904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312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18456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2462040" y="4751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103680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952880" y="2666880"/>
            <a:ext cx="4038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гировании                     4–валентного крем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5–валентным мышья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дин из 5 электронов мышьяка становится свободным.                                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ый ион. Дырки нет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04920" y="5805360"/>
            <a:ext cx="8083440" cy="9169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ой полупроводник называется полупроводником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и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ми носителя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ряда являю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ктр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примесь мышьяка, дающая свободные электроны,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норной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flipH="1" rot="18531600">
            <a:off x="1140120" y="175428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 flipH="1" rot="3127800">
            <a:off x="236628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 flipH="1" rot="18531600">
            <a:off x="2365920" y="304956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 flipH="1" rot="2954400">
            <a:off x="98892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4800600" y="2209680"/>
            <a:ext cx="0" cy="3429000"/>
          </a:xfrm>
          <a:prstGeom prst="line">
            <a:avLst/>
          </a:prstGeom>
          <a:ln w="12600">
            <a:solidFill>
              <a:srgbClr val="69676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3280" y="198864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Донорные приме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981000"/>
            <a:ext cx="843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кремний легировать трехвалентным индием, то для образования связей с кремнием у индия не хватает одного электрона, т.е. образуется дырк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00720" y="1916280"/>
            <a:ext cx="433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дает электроны и дырки в равном количестве. Примесь – только дырк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5880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29708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15432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255744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1905120" y="350532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3236760" y="3579840"/>
            <a:ext cx="26064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98568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288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3505320" y="4038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65880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315432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432160" y="475128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00656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 flipH="1" rot="18531600">
            <a:off x="892440" y="174636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 flipH="1" rot="3127800">
            <a:off x="233604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 flipH="1" rot="2954400">
            <a:off x="95868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Rectangle 23" descr=""/>
          <p:cNvPicPr/>
          <p:nvPr/>
        </p:nvPicPr>
        <p:blipFill>
          <a:blip r:embed="rId3"/>
          <a:stretch/>
        </p:blipFill>
        <p:spPr>
          <a:xfrm>
            <a:off x="450720" y="285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211280" y="2707920"/>
            <a:ext cx="493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й полупроводник        называется полупроводником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типа, основными носителями заряда являются дырки, а примесь индия, дающая дырки, называется акцептор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7:32:17Z</dcterms:created>
  <dc:creator>Лицей №6</dc:creator>
  <dc:description/>
  <dc:language>en-US</dc:language>
  <cp:lastModifiedBy>Admin</cp:lastModifiedBy>
  <dcterms:modified xsi:type="dcterms:W3CDTF">2012-12-20T11:25:20Z</dcterms:modified>
  <cp:revision>26</cp:revision>
  <dc:subject/>
  <dc:title>Слайд 1</dc:title>
</cp:coreProperties>
</file>